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move the slide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FB916-2F4C-46DA-8CF7-21A0004601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eacher is encouraged to present the view that he favors most in his own diligent study of all the passages involved.  But, since this is a summary lesson and cannot bog down in a lot of discussion, I will present a general outline and point out those clearer explanations given by Mark or Luk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B2449-B968-4281-897A-4D369CB60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C5C60-F08C-4982-9C0E-DE0F84B8C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B1A36-6237-4CBC-BD1C-D5BDA732F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36CB6-A8A1-49E5-8D92-2EAC1A844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88203-AB0B-4011-AD8B-6DBA33CE9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169ED-E6A3-4AF3-99BF-5425DBD48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50CAC-E777-4CCA-A175-04C5B9830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3891A-FF7B-46B1-9ED1-C832805B3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73BF9-0D55-4A0C-9A2A-B580DED63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CC355-5850-428A-8251-602BD134D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873C9-2B3C-44EE-9B7B-3D8E560A9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0385A-99D2-49C7-BE9E-251C51A69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060DA-BE10-4A77-914E-4B05A2592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50E92-43F0-4709-844E-07862A117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D3409-8482-4FCA-8AD2-D57A22714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59E79-9982-4013-9E2E-A573A26A4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A3902-88BE-4CCE-A88A-EF140344A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3D571-2716-428D-B99E-EFC0E57CC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D8C15-7D43-4A79-949E-66A7C7CE2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A9C07-714E-41C6-8882-057D6BB2F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CE28A-2238-4C98-A8AD-48BDC75B3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B1CEA-BE62-4C18-9D6B-3B7527AB3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73AF7-BE62-4F50-8710-566259CF3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04029-47B4-4BED-8C57-16E2E5985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57200" y="992160"/>
            <a:ext cx="8152920" cy="1599840"/>
            <a:chOff x="457200" y="992160"/>
            <a:chExt cx="8152920" cy="1599840"/>
          </a:xfrm>
        </p:grpSpPr>
        <p:sp>
          <p:nvSpPr>
            <p:cNvPr id="1" name=""/>
            <p:cNvSpPr/>
            <p:nvPr/>
          </p:nvSpPr>
          <p:spPr>
            <a:xfrm>
              <a:off x="2886480" y="9921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811960" y="11574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71280" y="13780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EDA03-6486-4980-8666-C7688E16A933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457200" y="2363760"/>
            <a:ext cx="8152920" cy="1599840"/>
            <a:chOff x="457200" y="2363760"/>
            <a:chExt cx="8152920" cy="1599840"/>
          </a:xfrm>
        </p:grpSpPr>
        <p:sp>
          <p:nvSpPr>
            <p:cNvPr id="47" name=""/>
            <p:cNvSpPr/>
            <p:nvPr/>
          </p:nvSpPr>
          <p:spPr>
            <a:xfrm>
              <a:off x="2886480" y="23637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811960" y="25290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771280" y="27496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69022-1B9C-4CDA-B0D6-7B2DAE6AE929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cc66"/>
                </a:solidFill>
                <a:latin typeface="Times New Roman"/>
              </a:rPr>
              <a:t>Life of Christ, Part 2</a:t>
            </a:r>
            <a:br>
              <a:rPr sz="4000"/>
            </a:br>
            <a:r>
              <a:rPr b="0" i="1" lang="en-US" sz="4000" spc="-1" strike="noStrike">
                <a:solidFill>
                  <a:srgbClr val="ffcc66"/>
                </a:solidFill>
                <a:latin typeface="Times New Roman"/>
              </a:rPr>
              <a:t>“Sir, We Would See Jesus”</a:t>
            </a:r>
            <a:br>
              <a:rPr sz="4000"/>
            </a:b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295280" y="4419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Quarter 10, Lesson 12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g. 144-150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Mark 13; Matt.24; Luke 21:5-36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3276720" y="2133720"/>
            <a:ext cx="2743200" cy="2028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F4F8E-A7ED-4995-BC1A-D435F8700F41}" type="slidenum">
              <a:t>1</a:t>
            </a:fld>
          </a:p>
        </p:txBody>
      </p:sp>
    </p:spTree>
  </p:cSld>
  <p:transition spd="med">
    <p:checke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Two Views On Matthew 24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The Topic is ALL About The Coming of the Lord in Judgment On Jerusalem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e Language of Apocalyptic Judgment Used in God’s previous judgments on Israel, Assyria, Egypt, and Babylon is used here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Matthew ADDS a topic of the Lord’s Second Coming To The Discussion of the Fall of Jerusalem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Mark and Luke did not include i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is discussion of the Second Coming starts after Matt.24:34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0571D-065E-4B0E-BA10-84E536327D7D}" type="slidenum">
              <a:t>2</a:t>
            </a:fld>
          </a:p>
        </p:txBody>
      </p:sp>
    </p:spTree>
  </p:cSld>
  <p:transition spd="med">
    <p:checke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The Anguish of Jesu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He would rather gather and protect his people – Matt.23:37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But, Israel has not been willing – 23:37b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Jesus will have to leave the “house” (the temple) DESOLATE – 23:38-39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This statement leads the disciples to ask WHEN this will happen and what SIGNS would lead up to this even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1786D-C945-401D-9938-A2BDBD2BF046}" type="slidenum">
              <a:t>3</a:t>
            </a:fld>
          </a:p>
        </p:txBody>
      </p:sp>
    </p:spTree>
  </p:cSld>
  <p:transition spd="med">
    <p:checker dir="horz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cc66"/>
                </a:solidFill>
                <a:latin typeface="Times New Roman"/>
              </a:rPr>
              <a:t>The Impact of Temple Destruction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Would END the Age of Judaism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e Priestly system would be los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e Place for Jewish worship would be los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e Political and Religious POWER of the Jewish leaders would be destroye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e blood of righteous prophets they murdered would be “avenged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Jesus Would Be Seen (Perceived) As The Power Directing The Salvation of His Saints and The Destruction of Judaism’s Center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40CEC-CE71-4F4E-B674-305C862CB67D}" type="slidenum">
              <a:t>4</a:t>
            </a:fld>
          </a:p>
        </p:txBody>
      </p:sp>
    </p:spTree>
  </p:cSld>
  <p:transition spd="med">
    <p:checker dir="horz"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cc66"/>
                </a:solidFill>
                <a:latin typeface="Times New Roman"/>
              </a:rPr>
              <a:t>The Temple Destruction Discussed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The Prophecy – “Not one stone will be left upon another” – Matt.24:1-3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The Inquiry of when – vs.3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The Signs of Times Leading Up To This Climactic Even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A time of Apostasy – with false prophets and false messiahs – 4,5,11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A time of anarchy and wars – 6-8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A time of apathy regarding devotion – 12-13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A time of affliction and persecution – 9-10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A time of accomplishment of spreading the gospel - 14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91F4E-04D6-4F21-8F68-28398C6681C5}" type="slidenum">
              <a:t>5</a:t>
            </a:fld>
          </a:p>
        </p:txBody>
      </p:sp>
    </p:spTree>
  </p:cSld>
  <p:transition spd="med">
    <p:checker dir="horz"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cc66"/>
                </a:solidFill>
                <a:latin typeface="Times New Roman"/>
              </a:rPr>
              <a:t>Other Signs Preceding The Climactic Fall of Jerusalem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Desecrating the temple with sacrilegious objects – prophesied in Daniel (9:27; 11:31; 12:11)– Matt. 24:15-26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e elect will be informed to flee to the mountains (believing Jesus would pay off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Christians could escape before the Roman army sealed off all exit routes (See Lk.21:20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Unbelieving Jews would remain and suffer the siege and destruct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These will seem to be the darkest of days - 29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E2206-B196-4D46-87B1-17D9EBB7ABA7}" type="slidenum">
              <a:t>6</a:t>
            </a:fld>
          </a:p>
        </p:txBody>
      </p:sp>
    </p:spTree>
  </p:cSld>
  <p:transition spd="med">
    <p:checker dir="horz"/>
  </p:transition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Apocalyptic Language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e darkening of the Sun, Moon, and Star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e Riding or Coming on the Cloud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ese are figurative, dramatic expressions of the Lord’s coming in a judgment of destruction against a city or country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It does not refer to the complete end of the world in this context (though it severely ends the Jewish world as they knew it then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imilar language was used by Isaiah about Babylon’s fall – Isaiah 13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imilar language is used by Ezekiel regarding the fall of Egypt – Ezekiel 32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These ended their world as they knew it, but was not an end to the whole world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AAFBF-B8C2-4EC9-8DF3-FF831DAC23BF}" type="slidenum">
              <a:t>7</a:t>
            </a:fld>
          </a:p>
        </p:txBody>
      </p:sp>
    </p:spTree>
  </p:cSld>
  <p:transition spd="med">
    <p:checker dir="horz"/>
  </p:transition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This Generation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ll the language up to verse 34 of Matthew 24 is about the coming of the Lord in judgment on Jerusalem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That very generation would see it al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The final fall of Jerusalem took place in AD 70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723EB-0BEA-443D-85C9-9A4F0C7865CE}" type="slidenum">
              <a:t>8</a:t>
            </a:fld>
          </a:p>
        </p:txBody>
      </p:sp>
    </p:spTree>
  </p:cSld>
  <p:transition spd="med">
    <p:checker dir="horz"/>
  </p:transition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" dur="10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5334120" y="1371600"/>
            <a:ext cx="3619440" cy="36194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762120" y="914400"/>
            <a:ext cx="41907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Today, the Jews Continue to “WAIL” at the Wailing Wall, and the Muslim’s Dome of the Rock stands where the temple once stood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1523880" y="2971800"/>
            <a:ext cx="2743200" cy="2028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0D73D-25F5-4110-84DC-6A591BE9A85A}" type="slidenum">
              <a:t>9</a:t>
            </a:fld>
          </a:p>
        </p:txBody>
      </p:sp>
    </p:spTree>
  </p:cSld>
  <p:transition spd="med">
    <p:checke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4T22:40:42Z</dcterms:created>
  <dc:creator>Terry W. Benton</dc:creator>
  <dc:description/>
  <dc:language>en-US</dc:language>
  <cp:lastModifiedBy>Frank D Vines</cp:lastModifiedBy>
  <dcterms:modified xsi:type="dcterms:W3CDTF">2006-08-16T02:44:07Z</dcterms:modified>
  <cp:revision>4</cp:revision>
  <dc:subject/>
  <dc:title>Life of Christ, Part 2 “Sir, We Would See Jesus” </dc:title>
</cp:coreProperties>
</file>